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8cf4ea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85800" y="2895480"/>
            <a:ext cx="78487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solve equations with variables on both sid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solve equations containing grouping symbo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685800" y="1030320"/>
            <a:ext cx="7848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d49f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ecial Case #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8)  2x + 5 = 2x -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121932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2x         -2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 =  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never tru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No solu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719280"/>
            <a:ext cx="0" cy="20239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295280"/>
            <a:ext cx="4267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“the river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2x from both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3505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190512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a27c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763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ecial Case #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9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(x + 1) - 5 = 3x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137160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8000"/>
          </a:bodyPr>
          <a:p>
            <a:pPr marL="475200" indent="-475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x + 3 – 5 = 3x -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x - 2 = 3x –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3x        -3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2  = 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lways tru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75200" indent="-4752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Infinite solutions or All Real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762120"/>
            <a:ext cx="0" cy="36576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1600200"/>
            <a:ext cx="4267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“the river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3x from both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6576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) What is the value of x if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3 + 12x = 12x - 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CorShape1"/>
          <p:cNvSpPr/>
          <p:nvPr/>
        </p:nvSpPr>
        <p:spPr>
          <a:xfrm>
            <a:off x="223920" y="397512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inite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AnswerNow"/>
          <p:cNvGrpSpPr/>
          <p:nvPr/>
        </p:nvGrpSpPr>
        <p:grpSpPr>
          <a:xfrm>
            <a:off x="838080" y="5181480"/>
            <a:ext cx="2222640" cy="444240"/>
            <a:chOff x="838080" y="5181480"/>
            <a:chExt cx="2222640" cy="444240"/>
          </a:xfrm>
        </p:grpSpPr>
        <p:sp>
          <p:nvSpPr>
            <p:cNvPr id="120" name="ANShape"/>
            <p:cNvSpPr/>
            <p:nvPr/>
          </p:nvSpPr>
          <p:spPr>
            <a:xfrm>
              <a:off x="838080" y="5181480"/>
              <a:ext cx="2222640" cy="444240"/>
            </a:xfrm>
            <a:prstGeom prst="bevel">
              <a:avLst>
                <a:gd name="adj" fmla="val 12500"/>
              </a:avLst>
            </a:prstGeom>
            <a:solidFill>
              <a:srgbClr val="618ff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ANText"/>
            <p:cNvSpPr/>
            <p:nvPr/>
          </p:nvSpPr>
          <p:spPr>
            <a:xfrm>
              <a:off x="838080" y="51814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) Challenge! What is the value of x if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8(x + 1) + 3(x - 2) = -3x + 2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AnswerNow"/>
          <p:cNvGrpSpPr/>
          <p:nvPr/>
        </p:nvGrpSpPr>
        <p:grpSpPr>
          <a:xfrm>
            <a:off x="838080" y="5181480"/>
            <a:ext cx="2222640" cy="444240"/>
            <a:chOff x="838080" y="5181480"/>
            <a:chExt cx="2222640" cy="444240"/>
          </a:xfrm>
        </p:grpSpPr>
        <p:sp>
          <p:nvSpPr>
            <p:cNvPr id="124" name="ANShape"/>
            <p:cNvSpPr/>
            <p:nvPr/>
          </p:nvSpPr>
          <p:spPr>
            <a:xfrm>
              <a:off x="838080" y="5181480"/>
              <a:ext cx="2222640" cy="444240"/>
            </a:xfrm>
            <a:prstGeom prst="bevel">
              <a:avLst>
                <a:gd name="adj" fmla="val 12500"/>
              </a:avLst>
            </a:prstGeom>
            <a:solidFill>
              <a:srgbClr val="618ff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NText"/>
            <p:cNvSpPr/>
            <p:nvPr/>
          </p:nvSpPr>
          <p:spPr>
            <a:xfrm>
              <a:off x="838080" y="51814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CorShape1"/>
          <p:cNvSpPr/>
          <p:nvPr/>
        </p:nvSpPr>
        <p:spPr>
          <a:xfrm>
            <a:off x="223920" y="2198520"/>
            <a:ext cx="291960" cy="2923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d49f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Solve. 3x + 2 = 4x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need to get the variables on one side of the equation.  It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atter which variable you move.  Try to move the one that will keep your variable posit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a27c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 Solve 3x + 2 = 4x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10666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518040" indent="-518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3x         - 3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 x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1        +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3 = 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(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+ 2 = 4(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8040" indent="-518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 + 2 = 12 -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5880" y="457200"/>
            <a:ext cx="0" cy="36576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“the riv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3x from both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1 to both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your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182880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CorShape1"/>
          <p:cNvSpPr/>
          <p:nvPr/>
        </p:nvSpPr>
        <p:spPr>
          <a:xfrm rot="10800000">
            <a:off x="8153280" y="518148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35053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da4b5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 Solve 8y - 9 = -3y +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10666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2000"/>
          </a:bodyPr>
          <a:p>
            <a:pPr marL="438480" indent="-438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3y        + 3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y – 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     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9        +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    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          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y =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38480" indent="-438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(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- 9 = -3(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+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533520"/>
            <a:ext cx="0" cy="518148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“the riv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3y to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9 to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both sides by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your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190512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rShape1"/>
          <p:cNvSpPr/>
          <p:nvPr/>
        </p:nvSpPr>
        <p:spPr>
          <a:xfrm rot="10800000">
            <a:off x="8305920" y="594360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35053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42670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42670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What is the value of x if 3 - 4x = 18 + x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95280" y="2743200"/>
          <a:ext cx="4590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459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376280" y="3505320"/>
          <a:ext cx="2970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6280" y="3505320"/>
                    <a:ext cx="297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CorShape1"/>
          <p:cNvSpPr/>
          <p:nvPr/>
        </p:nvSpPr>
        <p:spPr>
          <a:xfrm>
            <a:off x="380880" y="2152800"/>
            <a:ext cx="381240" cy="38088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AnswerNow"/>
          <p:cNvGrpSpPr/>
          <p:nvPr/>
        </p:nvGrpSpPr>
        <p:grpSpPr>
          <a:xfrm>
            <a:off x="838080" y="5181480"/>
            <a:ext cx="2222640" cy="444240"/>
            <a:chOff x="838080" y="5181480"/>
            <a:chExt cx="2222640" cy="444240"/>
          </a:xfrm>
        </p:grpSpPr>
        <p:sp>
          <p:nvSpPr>
            <p:cNvPr id="66" name="ANShape"/>
            <p:cNvSpPr/>
            <p:nvPr/>
          </p:nvSpPr>
          <p:spPr>
            <a:xfrm>
              <a:off x="838080" y="5181480"/>
              <a:ext cx="2222640" cy="444240"/>
            </a:xfrm>
            <a:prstGeom prst="bevel">
              <a:avLst>
                <a:gd name="adj" fmla="val 12500"/>
              </a:avLst>
            </a:prstGeom>
            <a:solidFill>
              <a:srgbClr val="618ff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NText"/>
            <p:cNvSpPr/>
            <p:nvPr/>
          </p:nvSpPr>
          <p:spPr>
            <a:xfrm>
              <a:off x="838080" y="51814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aec5e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)  Solve 4 = 7x - 3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10666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= 4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  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1 = 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= 7(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 - 3(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533520"/>
            <a:ext cx="0" cy="27432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29528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“the river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 the variables are on the same si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oth sides by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your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rShape1"/>
          <p:cNvSpPr/>
          <p:nvPr/>
        </p:nvSpPr>
        <p:spPr>
          <a:xfrm rot="10800000">
            <a:off x="8305920" y="441972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1828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182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8cf4ea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2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) Solve  -7(x - 3) = -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10666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7x + 21 = -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21    - 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7x         = -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7              -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         </a:t>
            </a:r>
            <a:r>
              <a:rPr b="0" lang="en-US" sz="3300" spc="-1" strike="noStrike">
                <a:solidFill>
                  <a:srgbClr val="fc0128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x =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7(</a:t>
            </a: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3) = -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7(1) = -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457200"/>
            <a:ext cx="0" cy="44197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1295280"/>
            <a:ext cx="4267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 “the river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21 from both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oth sides by 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your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orShape1"/>
          <p:cNvSpPr/>
          <p:nvPr/>
        </p:nvSpPr>
        <p:spPr>
          <a:xfrm rot="10800000">
            <a:off x="7924680" y="594360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5053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3505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6668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) What is the value of x i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(x + 4) = 2(x - 1)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AnswerNow"/>
          <p:cNvGrpSpPr/>
          <p:nvPr/>
        </p:nvGrpSpPr>
        <p:grpSpPr>
          <a:xfrm>
            <a:off x="838080" y="5181480"/>
            <a:ext cx="2222640" cy="444240"/>
            <a:chOff x="838080" y="5181480"/>
            <a:chExt cx="2222640" cy="444240"/>
          </a:xfrm>
        </p:grpSpPr>
        <p:sp>
          <p:nvSpPr>
            <p:cNvPr id="85" name="ANShape"/>
            <p:cNvSpPr/>
            <p:nvPr/>
          </p:nvSpPr>
          <p:spPr>
            <a:xfrm>
              <a:off x="838080" y="5181480"/>
              <a:ext cx="2222640" cy="444240"/>
            </a:xfrm>
            <a:prstGeom prst="bevel">
              <a:avLst>
                <a:gd name="adj" fmla="val 12500"/>
              </a:avLst>
            </a:prstGeom>
            <a:solidFill>
              <a:srgbClr val="618ff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ANText"/>
            <p:cNvSpPr/>
            <p:nvPr/>
          </p:nvSpPr>
          <p:spPr>
            <a:xfrm>
              <a:off x="838080" y="518148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aramond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CorShape1"/>
          <p:cNvSpPr/>
          <p:nvPr/>
        </p:nvSpPr>
        <p:spPr>
          <a:xfrm>
            <a:off x="482760" y="2109960"/>
            <a:ext cx="253800" cy="2538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a27c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67080" y="205740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 - 2x = 4x – 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 2x   +2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6x – 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 6                + 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9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6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6             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0128"/>
                </a:solidFill>
                <a:latin typeface="Times New Roman"/>
              </a:rPr>
              <a:t>         </a:t>
            </a:r>
            <a:r>
              <a:rPr b="0" lang="en-US" sz="3000" spc="-1" strike="noStrike">
                <a:solidFill>
                  <a:srgbClr val="fc0128"/>
                </a:solidFill>
                <a:latin typeface="Times New Roman"/>
              </a:rPr>
              <a:t>or 1.5 = 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7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)  Sol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“the riv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 the fraction – multiply each term by the L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2x to both 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6 to both 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de both sides by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your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1640" y="457200"/>
            <a:ext cx="42840" cy="533412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03880" y="31813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rShape1"/>
          <p:cNvSpPr/>
          <p:nvPr/>
        </p:nvSpPr>
        <p:spPr>
          <a:xfrm rot="10800000">
            <a:off x="7924680" y="6095880"/>
            <a:ext cx="457200" cy="4572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42670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0" y="152280"/>
            <a:ext cx="3521160" cy="1146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14800" y="1295280"/>
            <a:ext cx="4343400" cy="843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29200" y="4800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4800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29200" y="6013440"/>
          <a:ext cx="2590920" cy="6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6013440"/>
                    <a:ext cx="25909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735440" y="5181480"/>
          <a:ext cx="35244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35440" y="5181480"/>
                    <a:ext cx="352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4T18:24:24Z</dcterms:created>
  <dc:creator>Skip Tyler</dc:creator>
  <dc:description/>
  <cp:keywords/>
  <dc:language>en-US</dc:language>
  <cp:lastModifiedBy>Parkland High School</cp:lastModifiedBy>
  <cp:lastPrinted>2009-04-22T19:24:48Z</cp:lastPrinted>
  <dcterms:modified xsi:type="dcterms:W3CDTF">2010-10-06T16:21:56Z</dcterms:modified>
  <cp:revision>32</cp:revision>
  <dc:subject/>
  <dc:title>Solving Equations with Variables on Both Sides</dc:title>
</cp:coreProperties>
</file>